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DC65E-2638-4E9B-994D-B1BA13A84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45379-2465-4F20-AE5A-FC7AE7B7B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BC1E2-8362-464C-B52F-824E70A59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85745-D0BA-4BD7-B3FE-025F99AFA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FA423-46EB-4E80-81BF-F1FEC0F3B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067C2-5765-419B-BDC0-2F2CE8836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875DF-1673-4BF5-81EE-D2E3677A3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32CCD-0A7A-461A-8B38-779206EC4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35FFC-4A5C-44E2-840B-8E29298FF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E33F7-DA10-420E-ADBA-1C7997D4E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78761-5D17-4956-A336-B56FB1817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43342-9527-491D-99E0-F38556BE0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169F-4167-4344-9D4A-6DF94740C40F}"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68280"/>
            <a:ext cx="7772400" cy="34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Change Over Time</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enidorm</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1950's Benidorm was a small, attractive fishing village bordered by fine sandy beach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ew people visited it despite the attractive scenery andwarm summ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over the next 20 years travellers discovered the lovely little village and began to flock t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enidorm</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1970 Benidorm had been transformed from a small fishing village to a sprawling mass of hotels based around the needs of the touris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own had changed functions complete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1990 the resort had begun to stagnate, and the government was forced to step in with a scheme aimed at rejuvenating the resort and its facil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 Mining Town</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villages of South Wales began their existence as small farming communitie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uring the Industrial Revolution, large deposits of coal were found in the valleys and the mining industry took off.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Settlements grew due to this new industry.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owever by the 1930's the amount of coal being extracted was beginning to decline and by the 1990's all but one of the mines had been closed down.</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 Mining Town</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owns and villages that had relied on the coalmines began to declin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however have once again had their functions chang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 villages have become centres for commuters to locate to, whilst the larger settlements such as Pontypridd and Swansea have benefited from being at the Western end of the M4 Corrid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 Mining Tow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growth corridor extends right the way to London, and so large companies such as Sony, Bosch and the Royal Mint have been encouraged to relocate to South Wal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owns are becoming important industrial and business ar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00:41:45Z</dcterms:created>
  <dc:creator>Dell_02</dc:creator>
  <dc:description/>
  <dc:language>en-US</dc:language>
  <cp:lastModifiedBy>Dell_02</cp:lastModifiedBy>
  <dcterms:modified xsi:type="dcterms:W3CDTF">2011-01-26T05:22:07Z</dcterms:modified>
  <cp:revision>1</cp:revision>
  <dc:subject/>
  <dc:title>Change Over Time</dc:title>
</cp:coreProperties>
</file>